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3.jpeg" ContentType="image/jpeg"/>
  <Override PartName="/ppt/media/image24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E24-B002-4B49-ADCC-C901D6F3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D4E-C504-464D-BCFC-633FB50C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5A4-CD6C-4D8D-9429-C4E1D54F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CA5-52E6-4410-B3F9-F2C4278F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669-98F7-49A8-A2F4-7C653970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B1E9-42C3-45A8-888C-C2811F4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03E-05A1-4F02-BAB7-6065AF3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2D4-5A3C-4D94-9721-0F7E7A4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A029-E16D-4D62-A3D5-89C2281A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76E3-89D7-427A-921D-E91069D7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063-E96C-4D17-8F46-7F8D0831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7E5-9F16-4A48-B386-1310C1B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727D-30F0-40E9-B149-41C8694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A978-EF58-4E42-BDFB-0754E058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F9EB-2B48-43CB-8CBB-18E13A2A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B6B8-AB16-4573-B3FC-9FCDB5A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F554-57C7-4F7A-8CF6-8A7EC1E6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DE5-89FB-4C10-B23E-EB7C81FE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B6F-E073-4055-A277-8B3E5C7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583-D352-4F51-AC9A-1A5015E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4E4-EDE8-4A55-BDC5-41DFEC2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740-B3F7-4925-8F5A-01CE9AF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73C-D2F5-47B6-8A18-8B641EDE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08E-035C-4F3C-ACD5-852E56E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B6EE-3561-4944-8F33-AA5A89F42B3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B3E-9B66-425D-BF89-5A659303C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8B4-C942-4B6B-9EBA-573A81DE267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BF4-0734-4A2C-B6CC-A5BDFDC8F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i.ac.at/index.php?eID=tx_cms_showpic&amp;file=uploads%2Fpics%2Faiplan.jpg&amp;width=800m&amp;height=600m&amp;bodyTag=%3Cbody%20style%3D%22margin%3A0%3B%20background%3A%23fff%3B%22%3E&amp;wrap=%3Ca%20href%3D%22javascript%3Aclose%28%29%3B%22%3E%20%7C%20%3C%2Fa%3E&amp;md5=29e8899e975ed9a266c7765f2081a65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-simon.de/praesent/Atomgroesse.zip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764640"/>
            <a:ext cx="77724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Unterricht in Live Online- Räumen</a:t>
            </a:r>
            <a:br>
              <a:rPr sz="5400"/>
            </a:b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 Black"/>
              </a:rPr>
              <a:t>Physik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a, der KMSI Sechshaus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+ Dr. Sterba (Atominstitut Wi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C496-7979-4677-9EF8-94CD36D646E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5F5B4A-2CBD-4B2F-A470-333BC6D69C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486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as Uranatom besteht au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Protonen,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Neutronen un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.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Elektronen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356256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B04-C7B9-4EEA-A79F-12AB41133FA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18F40-F42C-4673-B9BC-E1F08E286049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lle Wasserstoffatome haben 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Protonen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54348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2C8-DBA3-4754-9188-3174AC4687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82017-A1B2-4F65-9A49-A722194CACED}" type="datetime1">
              <a:rPr lang="en-US"/>
              <a:t>07/29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lle Sauerstoffatome haben 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Protonen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727000" cy="25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5AC-9B87-411D-B3B2-B2F88810F82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971538-3896-41B9-AF5A-229714EB545A}" type="datetime1">
              <a:rPr lang="en-US"/>
              <a:t>07/29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Uran ist das 92. Element im Periodensystem und daher haben alle Uranatome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..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Protone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2994120" cy="32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187-E51A-4F02-9E83-B525116EB488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FB792-42F2-42CC-A86D-66FD8D9BCA27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Hinsichtlich der Anzahl der Neutronen kann es aber Unterschiede geben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3E8-2B69-47DE-8D7A-D0FE8EA796F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65BA1-E3C1-4A0A-A026-6B3FEA4A570F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„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Gewöhnlicher“ Wasserstoff hat kein Neutron, es gibt aber Wasserstoffatome mit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Neutron und sogar mit 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.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Neutronen   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680000" cy="28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04E-FFEE-4C6D-BFEC-0BDC4A16830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4EBE6-ABDB-469E-889D-00447CA90B7A}" type="datetime1">
              <a:rPr lang="en-US"/>
              <a:t>07/29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tome mit gleich vielen Protonen, aber unterschiedlich vielen Neutronen nennt man </a:t>
            </a: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I . . . . . .!!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210120" cy="176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63C-DFCD-43E5-A582-BFED4765E2D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5DB22-2F8E-4F40-BD9F-AB00D6395A63}" type="datetime1">
              <a:rPr lang="en-US"/>
              <a:t>07/29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0" y="1557360"/>
            <a:ext cx="36212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iese Uran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……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sind für die Kernspaltung im Atomkraftwerk wichtig: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__________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00680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AFA-ED37-4662-A127-A5E486499A5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18961-10A8-4D20-A113-9A318CD68AD7}" type="datetime1">
              <a:rPr lang="en-US"/>
              <a:t>07/29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522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ie erste Kernspaltung gelang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 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933800" cy="252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756160" cy="440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96B-39A3-4127-A63C-4A99AE2104F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E2B70-0C32-4E35-B13F-28B59469C617}" type="datetime1">
              <a:rPr lang="en-US"/>
              <a:t>07/29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Bei einer Kernspaltung entstehe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_______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Radioaktivität"/>
          <p:cNvPicPr/>
          <p:nvPr/>
        </p:nvPicPr>
        <p:blipFill>
          <a:blip r:embed="rId1"/>
          <a:stretch/>
        </p:blipFill>
        <p:spPr>
          <a:xfrm>
            <a:off x="755640" y="26028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300480" cy="2023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627280" y="2492280"/>
            <a:ext cx="321012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784-D130-4746-9502-99C4B9CE903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1ED9F-A0C6-4791-8A0F-B10B69519A4F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379840" cy="3333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Onlinestunde 19.3.2010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ma: Grundbegriffe der Atomphys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52C4-11B4-49B9-839B-68666968AE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29F2304-4C00-4B86-B274-36192388D2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s gibt 3 Arten radioaktiver Strahlung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604836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927-7BC6-4203-9306-7AE8CA0B549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72993-510C-4EA2-8F92-760CB3D8651D}" type="datetime1">
              <a:rPr lang="en-US"/>
              <a:t>07/29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Wir schützen uns vor Radioaktivitä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4076640"/>
          <a:ext cx="8229600" cy="2405160"/>
        </p:xfrm>
        <a:graphic>
          <a:graphicData uri="http://schemas.openxmlformats.org/drawingml/2006/table">
            <a:tbl>
              <a:tblPr/>
              <a:tblGrid>
                <a:gridCol w="3382920"/>
                <a:gridCol w="4846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chut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lph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t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ammastrahlu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17264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F58-BA38-4F6E-8198-7156529A0BC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B0730-3FB7-42AB-9AFC-C71239060F24}" type="datetime1">
              <a:rPr lang="en-US"/>
              <a:t>07/29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8280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Im Kernkraftwerk wird mit der bei der Kernspaltung entstehende Wärm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Erzeugt, der eine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T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Betreibt, diese den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G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Und der erzeugt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dann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. . . .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27640" cy="42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512-437D-4260-8504-388E3665735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2F6AE-C6AE-45D8-81C1-F4CFDA6204FB}" type="datetime1">
              <a:rPr lang="en-US"/>
              <a:t>07/29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e Kettenreaktio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2B0-CAEC-49D4-BB3B-7976861A692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9240B-28C0-469C-AF1E-364BB318F26C}" type="datetime1">
              <a:rPr lang="en-US"/>
              <a:t>07/29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72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as ist eine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Kettenreaktion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!!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438360" cy="32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76A-D4D0-4D03-B9AE-5C2361CA9BF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2CF9F-09A5-4FDC-B7EA-F2BAFC4E9FD9}" type="datetime1">
              <a:rPr lang="en-US"/>
              <a:t>07/29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ine Kettenreaktion führt zu einer Explosion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400720" cy="371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42E-A891-4F66-B8D2-65CA72ED08C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146E9-BB2F-4B8D-AA1E-A54C68472126}" type="datetime1">
              <a:rPr lang="en-US"/>
              <a:t>07/29/26</a:t>
            </a:fld>
          </a:p>
        </p:txBody>
      </p:sp>
    </p:spTree>
  </p:cSld>
  <p:transition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ragen der Schüler an den Expert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he Staaten der Welt können Uran aufberei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ann es einen neuerlichen Atombombenabwurf geb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lgen eines Atomkrieg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17E-D45E-4ABB-941E-D1B0C5E0A7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E1664-1A63-4D60-8758-B21D449D58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aipla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692280"/>
            <a:ext cx="4152600" cy="3252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6400800" cy="647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t: Atominstitut - W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3657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er befindet sich Österreichs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einziger aktiver Kernreak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Ich werde mich mit einem Experten in seinem Kontrollzentrum bzw. auf dem Reaktor befind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FE56-C4A1-4924-A936-B992239D4FB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6F6482-5683-47C9-A573-91FACACCC1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Inhal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ge des Atominstit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Österreichs einziger aktiver Reak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ntrollzent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rarbeitung der wichtigsten Grundbegriffe der Atomphysik mit den Schül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E2C-D2AD-4362-A10B-AAADB8FC99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96F80-FFD1-4CA2-BD35-C59FCA316A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24360" y="2637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196-EAF4-4292-927E-610CBBB2390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866E1-8658-414C-A237-1449F0144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Ein Streifzug durch die Welt der At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fbau der At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terschied: Neutron – Proton – Elektron; Iso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 verschiedene Strahlungsar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utz vor Radioaktivitä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rnspalt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s ist eine Kettenreak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AD2-F6C4-4B31-9854-35B086E61E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7A27B-D094-43AC-A72A-E76F51D3D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ie kleinsten Bausteine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der Stoff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 Streifzug durch die Welt der At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941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09B-C89E-458F-B2B9-9EE4D5712E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5ECD39-DF61-4BBF-A18D-960D30F20D37}" type="datetime1">
              <a:rPr lang="en-US"/>
              <a:t>07/29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tome bestehen aus einem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und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iner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E . . . . . . . . . . . . . .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   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096080" cy="442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364-899C-45D5-A33C-B09E184698B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F8DE6-D209-4809-8FF5-940D4C765D05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86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s gibt 3 verschiedene Teilchen: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__________________________________________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1B7-5243-4A62-9503-05D48C18141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1F404-3197-4940-8A9C-93355CAA21FC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18:05Z</dcterms:created>
  <dc:creator>KUNIGUNDE</dc:creator>
  <dc:description/>
  <dc:language>en-US</dc:language>
  <cp:lastModifiedBy>KUNIGUNDE</cp:lastModifiedBy>
  <dcterms:modified xsi:type="dcterms:W3CDTF">2010-06-08T13:58:03Z</dcterms:modified>
  <cp:revision>6</cp:revision>
  <dc:subject/>
  <dc:title>Unterricht in Live Online- Räumen</dc:title>
</cp:coreProperties>
</file>